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A1D-63B0-44CC-BE80-D1158C8A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826-8B24-43F7-8682-0225373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D48-CE95-4EE5-9386-7EF302E2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1A4-985A-4C7C-A047-D0AB8B9E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563-1CA2-4DBA-BBB5-9DA3A7F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543-E3ED-4D7D-8E1D-8C30B63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631-98D1-4F00-8F50-EC22C22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1C6-6DA1-496F-B0C5-1D0A44A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DF6-7875-4458-B846-503328B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5F5-0868-4147-B1AD-B8F17CB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D23-B873-46E0-957D-D28A7EE5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537-F858-4350-8A1E-EBBBF38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015-D68A-4401-BAD5-EFBF22A3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rcasm.net/wp-content/uploads/2011/06/Big_Brother_13_house_photo_00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63360" y="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HawaiiBI-WaikoloaFairway-17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-780120" y="46080"/>
            <a:ext cx="101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Mi casa esta localizada en hawaii. En Estados Unidos de Amer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El precio de cinco Millonese de pesos.La casa es muy muy gran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Teine un dos piscina,y grande yarde , y terraza, y caurto de s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arge-master-bedroom-designs-2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-5040" y="0"/>
            <a:ext cx="88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ormitorio principal teine un television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, cama , y ventana.Yo Guesta a ver television y dormir 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 dormitor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aggadelic blue Head of Household bedroom from Big Brother Season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-6840" y="60948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ormitorio es muy grande. Teine domir, y silla , me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 guesta a relajarse en el dormitor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a00e554fd440d8834011168609ac8970c-500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38120" y="316080"/>
            <a:ext cx="73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cina es grande. Tiene lujoso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ene la nevera. Es negro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mazing-living-rooms-with-view-Freshom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1768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68520" y="341280"/>
            <a:ext cx="80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ala de estar es muy grande y temible. Que tiene un sofa y una silla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arge-Dining-Room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363240" y="341280"/>
            <a:ext cx="54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medor es grande, muy bonito, y en el agu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Basement_Theater_Game_Room_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747360" y="457200"/>
            <a:ext cx="76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bfc5"/>
                </a:solidFill>
                <a:latin typeface="Broadway"/>
              </a:rPr>
              <a:t>El sotano es muy, muy fantastico! Tambien es muy grand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-bathro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09480" y="5335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oadway"/>
              </a:rPr>
              <a:t>El cuarto de  bano es MUY MUY MUY MUY grande. Es muy fresco y limp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3:05:26Z</dcterms:created>
  <dc:creator>fosbergemi</dc:creator>
  <dc:description/>
  <dc:language>en-US</dc:language>
  <cp:lastModifiedBy>Mike Kane</cp:lastModifiedBy>
  <dcterms:modified xsi:type="dcterms:W3CDTF">2012-05-29T00:19:13Z</dcterms:modified>
  <cp:revision>12</cp:revision>
  <dc:subject/>
  <dc:title>Slide 1</dc:title>
</cp:coreProperties>
</file>